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10.gif" ContentType="image/gi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6.wmf" ContentType="image/x-wmf"/>
  <Override PartName="/ppt/media/image19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8649-38FC-49A1-8385-5E101043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6DE3-5BBA-446D-9E72-3A961F1C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1056-2167-41B5-B9AD-80A5AA22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00F7-6F8D-4AF1-9DBB-2347EF0C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2640-0BFB-426F-895D-7B315D4E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5F60-D8AB-4465-B4D1-CBF08BC0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5201-8B2E-4F36-A404-F15962B1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F474-D487-441A-AEF8-4DF40308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06A2-9487-47D8-AB33-BA71EF26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929F-29A7-49BC-B8CC-8C9844D9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7C3A-792E-4803-96C2-52988BE8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4C64-5F15-4350-9951-882AD448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9383-CBAC-45CA-B696-419C208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6859-B54C-4E0A-B480-FBE26AC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CA50-DD90-4CDC-B0B1-B318A2D1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1B58-6329-4598-9EC8-353D7B6C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1D6E-23C4-4D78-B464-A3D77537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3C9C-FFB3-45B3-BA91-CE376222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22B2-4BD5-4F31-B2C4-53250603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1192-16FF-4642-89AD-12BAE44A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84BA-C1B2-4B9F-BF7B-25E787BF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AD0A-A0D2-49C4-88E3-01345674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319B-F516-4263-8634-FA49A61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E5FF-E9AD-47FA-91EB-3B321114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7225-8AB5-4056-8F93-BE4162D173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303C-5181-4B88-9FD2-A30E7F1FD1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~PP3166.WAV" TargetMode="External"/><Relationship Id="rId3" Type="http://schemas.microsoft.com/office/2007/relationships/media" Target="file:///tmp/home/.config/libreoffice/4/user/gallery/~PP3166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file:///tmp/home/.config/libreoffice/4/user/gallery/~PP3145.WAV" TargetMode="External"/><Relationship Id="rId3" Type="http://schemas.microsoft.com/office/2007/relationships/media" Target="file:///tmp/home/.config/libreoffice/4/user/gallery/~PP3145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~PP3815.WAV" TargetMode="External"/><Relationship Id="rId3" Type="http://schemas.microsoft.com/office/2007/relationships/media" Target="file:///tmp/home/.config/libreoffice/4/user/gallery/~PP3815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file:///tmp/home/.config/libreoffice/4/user/gallery/~PP295.WAV" TargetMode="External"/><Relationship Id="rId3" Type="http://schemas.microsoft.com/office/2007/relationships/media" Target="file:///tmp/home/.config/libreoffice/4/user/gallery/~PP295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file:///tmp/home/.config/libreoffice/4/user/gallery/~PP408.WAV" TargetMode="External"/><Relationship Id="rId3" Type="http://schemas.microsoft.com/office/2007/relationships/media" Target="file:///tmp/home/.config/libreoffice/4/user/gallery/~PP408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97.WAV" TargetMode="External"/><Relationship Id="rId2" Type="http://schemas.microsoft.com/office/2007/relationships/media" Target="file:///tmp/home/.config/libreoffice/4/user/gallery/~PP297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file:///tmp/home/.config/libreoffice/4/user/gallery/~PP4062.WAV" TargetMode="External"/><Relationship Id="rId3" Type="http://schemas.microsoft.com/office/2007/relationships/media" Target="file:///tmp/home/.config/libreoffice/4/user/gallery/~PP4062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~PP3201.WAV" TargetMode="External"/><Relationship Id="rId3" Type="http://schemas.microsoft.com/office/2007/relationships/media" Target="file:///tmp/home/.config/libreoffice/4/user/gallery/~PP320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~PP2913.WAV" TargetMode="External"/><Relationship Id="rId3" Type="http://schemas.microsoft.com/office/2007/relationships/media" Target="file:///tmp/home/.config/libreoffice/4/user/gallery/~PP2913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~PP3271.WAV" TargetMode="External"/><Relationship Id="rId3" Type="http://schemas.microsoft.com/office/2007/relationships/media" Target="file:///tmp/home/.config/libreoffice/4/user/gallery/~PP327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~PP3081.WAV" TargetMode="External"/><Relationship Id="rId3" Type="http://schemas.microsoft.com/office/2007/relationships/media" Target="file:///tmp/home/.config/libreoffice/4/user/gallery/~PP308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file:///tmp/home/.config/libreoffice/4/user/gallery/~PP3219.WAV" TargetMode="External"/><Relationship Id="rId3" Type="http://schemas.microsoft.com/office/2007/relationships/media" Target="file:///tmp/home/.config/libreoffice/4/user/gallery/~PP3219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file:///tmp/home/.config/libreoffice/4/user/gallery/~PP3061.WAV" TargetMode="External"/><Relationship Id="rId3" Type="http://schemas.microsoft.com/office/2007/relationships/media" Target="file:///tmp/home/.config/libreoffice/4/user/gallery/~PP306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~PP2699.WAV" TargetMode="External"/><Relationship Id="rId3" Type="http://schemas.microsoft.com/office/2007/relationships/media" Target="file:///tmp/home/.config/libreoffice/4/user/gallery/~PP2699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~PP3259.WAV" TargetMode="External"/><Relationship Id="rId3" Type="http://schemas.microsoft.com/office/2007/relationships/media" Target="file:///tmp/home/.config/libreoffice/4/user/gallery/~PP3259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file:///tmp/home/.config/libreoffice/4/user/gallery/~PP3616.WAV" TargetMode="External"/><Relationship Id="rId3" Type="http://schemas.microsoft.com/office/2007/relationships/media" Target="file:///tmp/home/.config/libreoffice/4/user/gallery/~PP3616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eine Ferien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e We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2655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Fotografi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225960" y="2513160"/>
            <a:ext cx="2922480" cy="38113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Grand Canyon besichtig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3863880" cy="43434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eine Cola getrun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579760" y="2590920"/>
            <a:ext cx="4105080" cy="42670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1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mit abendessen geholf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486400" cy="42228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5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Musik gehö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Music"/>
          <p:cNvSpPr/>
          <p:nvPr/>
        </p:nvSpPr>
        <p:spPr>
          <a:xfrm>
            <a:off x="1905120" y="2133720"/>
            <a:ext cx="4495680" cy="4343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9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gefallt mir g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940120" y="2133720"/>
            <a:ext cx="3308400" cy="44193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3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 musst Arizona gegang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2209680" y="2219400"/>
            <a:ext cx="5410440" cy="37242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war in Arizo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153640" cy="44514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war in einem Hot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585880" cy="17510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war in Sedo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286000" y="2227320"/>
            <a:ext cx="4800600" cy="31528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einem Salat geges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666880" y="2373480"/>
            <a:ext cx="3886200" cy="32796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3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bin Rad gefahr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038480" y="3352680"/>
            <a:ext cx="2286000" cy="22161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7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Baseball gemac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590920" y="2541600"/>
            <a:ext cx="4206600" cy="27925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einem Pulli gekau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2590920" y="2508120"/>
            <a:ext cx="3808440" cy="39690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Videospiele gespie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419360" cy="35640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57:54Z</dcterms:created>
  <dc:creator>CUSD220</dc:creator>
  <dc:description/>
  <dc:language>en-US</dc:language>
  <cp:lastModifiedBy>CUSD220</cp:lastModifiedBy>
  <dcterms:modified xsi:type="dcterms:W3CDTF">2011-11-17T15:17:06Z</dcterms:modified>
  <cp:revision>4</cp:revision>
  <dc:subject/>
  <dc:title>Meine Ferien </dc:title>
</cp:coreProperties>
</file>